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wmf" ContentType="image/x-wmf"/>
  <Override PartName="/ppt/media/image3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E78A-A5DB-441F-887E-BF6A7F779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9842-17D3-4907-AA32-15BDCA91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6E2D-D732-40A3-A78F-5B2410791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588D-AC69-41A6-BD33-26D1B8BC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7274-F4DB-4961-8D07-83AE2A0A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B0E5-7DD6-4013-82D3-B684C164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C36E-5830-49C4-A96E-04683FE8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A6D4-BE7C-49C1-AD21-4440884E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B6CF-97D2-485B-A6EA-201DE15B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C604-BF2B-4028-8D81-F8EEA82A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4617-0DB2-4BD7-81DF-DB3B1AD0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957F-0BE0-476E-A030-D38E2EF6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3BB5-6E80-4B09-9D93-CA1360ABF1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907920" y="2266920"/>
            <a:ext cx="8242560" cy="117792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3" descr="J0295069.WMF"/>
          <p:cNvPicPr/>
          <p:nvPr/>
        </p:nvPicPr>
        <p:blipFill>
          <a:blip r:embed="rId2"/>
          <a:stretch/>
        </p:blipFill>
        <p:spPr>
          <a:xfrm>
            <a:off x="642960" y="2286000"/>
            <a:ext cx="45687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«Плясать под чужую дудку»"/>
          <p:cNvPicPr/>
          <p:nvPr/>
        </p:nvPicPr>
        <p:blipFill>
          <a:blip r:embed="rId1"/>
          <a:stretch/>
        </p:blipFill>
        <p:spPr>
          <a:xfrm>
            <a:off x="142920" y="142920"/>
            <a:ext cx="4357800" cy="24289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"/>
          <p:cNvSpPr/>
          <p:nvPr/>
        </p:nvSpPr>
        <p:spPr>
          <a:xfrm>
            <a:off x="-142920" y="2504520"/>
            <a:ext cx="52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«Плясать под чужую дудку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беспрекословно выполнять волю друг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5" descr="«Сесть на шею»"/>
          <p:cNvPicPr/>
          <p:nvPr/>
        </p:nvPicPr>
        <p:blipFill>
          <a:blip r:embed="rId2"/>
          <a:stretch/>
        </p:blipFill>
        <p:spPr>
          <a:xfrm>
            <a:off x="5000760" y="0"/>
            <a:ext cx="3876480" cy="5643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5357880" y="5662080"/>
            <a:ext cx="35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«Сесть на шею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ыть обузой для друг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8" descr="«Водить за нос»"/>
          <p:cNvPicPr/>
          <p:nvPr/>
        </p:nvPicPr>
        <p:blipFill>
          <a:blip r:embed="rId3"/>
          <a:stretch/>
        </p:blipFill>
        <p:spPr>
          <a:xfrm>
            <a:off x="428760" y="3286080"/>
            <a:ext cx="3929040" cy="27860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0" y="621612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«Водить за нос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обманы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0"/>
          <p:cNvSpPr/>
          <p:nvPr/>
        </p:nvSpPr>
        <p:spPr>
          <a:xfrm>
            <a:off x="5286240" y="6143760"/>
            <a:ext cx="3643560" cy="571320"/>
          </a:xfrm>
          <a:prstGeom prst="rect">
            <a:avLst/>
          </a:prstGeom>
          <a:solidFill>
            <a:srgbClr val="ffc7d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1"/>
          <p:cNvSpPr/>
          <p:nvPr/>
        </p:nvSpPr>
        <p:spPr>
          <a:xfrm>
            <a:off x="2786040" y="6286680"/>
            <a:ext cx="1785960" cy="357120"/>
          </a:xfrm>
          <a:prstGeom prst="rect">
            <a:avLst/>
          </a:prstGeom>
          <a:solidFill>
            <a:srgbClr val="ffc7d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2"/>
          <p:cNvSpPr/>
          <p:nvPr/>
        </p:nvSpPr>
        <p:spPr>
          <a:xfrm>
            <a:off x="285840" y="2928960"/>
            <a:ext cx="4357440" cy="357120"/>
          </a:xfrm>
          <a:prstGeom prst="rect">
            <a:avLst/>
          </a:prstGeom>
          <a:solidFill>
            <a:srgbClr val="ffc7d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4"/>
          <p:cNvSpPr/>
          <p:nvPr/>
        </p:nvSpPr>
        <p:spPr>
          <a:xfrm>
            <a:off x="428760" y="214200"/>
            <a:ext cx="84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удожник-иностранец продолжает изучать русский язык. Но во фразеологизмах он никак не может разобраться. Назовите фразеологизмы, которые здесь им изображены. Когда они употребляются? Составьте с ними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5" descr="http://tmn.fio.ru/works/97x/305/kroc.gif"/>
          <p:cNvPicPr/>
          <p:nvPr/>
        </p:nvPicPr>
        <p:blipFill>
          <a:blip r:embed="rId1"/>
          <a:stretch/>
        </p:blipFill>
        <p:spPr>
          <a:xfrm>
            <a:off x="0" y="1785960"/>
            <a:ext cx="3643200" cy="32148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http://tmn.fio.ru/works/97x/305/basm1.gif"/>
          <p:cNvPicPr/>
          <p:nvPr/>
        </p:nvPicPr>
        <p:blipFill>
          <a:blip r:embed="rId2"/>
          <a:stretch/>
        </p:blipFill>
        <p:spPr>
          <a:xfrm>
            <a:off x="5786280" y="1643040"/>
            <a:ext cx="3071880" cy="26431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7" descr="http://tmn.fio.ru/works/97x/305/bik.gif"/>
          <p:cNvPicPr/>
          <p:nvPr/>
        </p:nvPicPr>
        <p:blipFill>
          <a:blip r:embed="rId3"/>
          <a:stretch/>
        </p:blipFill>
        <p:spPr>
          <a:xfrm>
            <a:off x="3714840" y="4081320"/>
            <a:ext cx="395280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3" descr="http://tmn.fio.ru/works/97x/305/zvezda.jpg"/>
          <p:cNvPicPr/>
          <p:nvPr/>
        </p:nvPicPr>
        <p:blipFill>
          <a:blip r:embed="rId1"/>
          <a:stretch/>
        </p:blipFill>
        <p:spPr>
          <a:xfrm>
            <a:off x="285840" y="142920"/>
            <a:ext cx="3000240" cy="44290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4" descr="http://tmn.fio.ru/works/97x/305/butilka.gif"/>
          <p:cNvPicPr/>
          <p:nvPr/>
        </p:nvPicPr>
        <p:blipFill>
          <a:blip r:embed="rId2"/>
          <a:stretch/>
        </p:blipFill>
        <p:spPr>
          <a:xfrm>
            <a:off x="6786720" y="1071720"/>
            <a:ext cx="2143080" cy="4572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http://tmn.fio.ru/works/97x/305/lis.gif"/>
          <p:cNvPicPr/>
          <p:nvPr/>
        </p:nvPicPr>
        <p:blipFill>
          <a:blip r:embed="rId3"/>
          <a:stretch/>
        </p:blipFill>
        <p:spPr>
          <a:xfrm>
            <a:off x="3643200" y="357120"/>
            <a:ext cx="2810160" cy="3429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tele"/>
          <p:cNvPicPr/>
          <p:nvPr/>
        </p:nvPicPr>
        <p:blipFill>
          <a:blip r:embed="rId4"/>
          <a:stretch/>
        </p:blipFill>
        <p:spPr>
          <a:xfrm>
            <a:off x="2714760" y="4071960"/>
            <a:ext cx="38098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357120"/>
            <a:ext cx="822960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Тянуть канат – тянуть врем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Рубашка нараспашку- душа нараспашк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чем разница этих выражени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ие словосочетания созданы на основе переносного значени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ие средства художественной выразительности создаются благодаря переносу значения сл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 flipV="1" rot="10800000">
            <a:off x="1499760" y="61920"/>
            <a:ext cx="5830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142920" y="571680"/>
            <a:ext cx="878688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ать текст, вставить пропущенные буквы, подчеркнуть фразеологиз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члены предложения, дать им толк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 flipV="1" rot="10800000">
            <a:off x="714240" y="2055240"/>
            <a:ext cx="8429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аня  привык из мухи делать сл…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естра надулась как мыш… на круп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ережа н…сет(ь)ся сл..мя голо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етя всегда был без царя в г..ло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357120" y="172440"/>
            <a:ext cx="85010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Прочитайте текст. Кто больше найдет фразеологизмов в текст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й самый близкий друг Шурик любил, оказывается, считать ворон, бить баклуши и гонять лодыря. Дома он, как о том были наслышаны все в квартале, палец о палец не ударял, чтобы помочь бабушке. Как его только ни корили вернувшиеся с работы родители, что ему ни выговаривали, а ему все нипочем. В один из вечеров мы, приятели Шурика, услышали, что на его месте мы давно бы сквозь землю провалились и что мучили бы нас угрызения совести. А этому, что ни толку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 одно ухо влетает, в другое вылетает. И таким он, оказывается, был и когда от горшка два вершка только составлял, и теперь, вымахавши с коломенскую версту. Все с него как с гуся вода, все ему что об стенку горо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т, мать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заключил однажды отец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я больше не намерен бросать слова на ветер и сидеть сложа ру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он потянулся за ремнем на стене, чтобы Шурику всыпать по первое число, задать баню, снять с него стружку и в конце концов показать, где раки зимуют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Э.А.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таньян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Найдите в тексте фразеологизмы, которые имеют одинаковое значение? Назовите их. Каково их знач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28760" y="-3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Спасибо за урок!!!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 сегодня не переливали из пустого в порожнее, а работали не покладая рук. И хоть к концу урока мы немного устали, но не вышли из себя, а взяли себя в руки и продолжили работу. И в классе не было ни одного, кто бы смотрел на работу одноклассников                   сквозь пальц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Рисунок 3" descr="http://nsc.1september.ru/2004/24/16.gif"/>
          <p:cNvPicPr/>
          <p:nvPr/>
        </p:nvPicPr>
        <p:blipFill>
          <a:blip r:embed="rId1"/>
          <a:stretch/>
        </p:blipFill>
        <p:spPr>
          <a:xfrm>
            <a:off x="285840" y="3429000"/>
            <a:ext cx="2071440" cy="32623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http://nsc.1september.ru/2004/24/17.gif"/>
          <p:cNvPicPr/>
          <p:nvPr/>
        </p:nvPicPr>
        <p:blipFill>
          <a:blip r:embed="rId2"/>
          <a:stretch/>
        </p:blipFill>
        <p:spPr>
          <a:xfrm>
            <a:off x="6357960" y="3071880"/>
            <a:ext cx="2610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85480" y="214200"/>
            <a:ext cx="871524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81680" indent="-36144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человек болтлив, то говорят, что у него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язык без уш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Если же болтун в придачу любит рассказывать чужие секреты, то у него слишком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роткий язык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акому человеку можно посоветовать, чтобы он н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спускал ру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почащ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ржал их за зуба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а то и вовс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кусил их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Любители болтать чешут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уки попуст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Однако бегло, свободно говорить очень часто бывает просто необходимо. Про человека, обладающего этим умением, скажут, что у него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ос хорошо подвеше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Бывает, что человека никак не удается втянуть в беседу. Сидит себе, молчит – как будто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м проглоти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Отчаиваться в таких случаях не стоит. Может быть, он у него ещ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яжется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1680" indent="-36144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1680" indent="-361440">
              <a:spcBef>
                <a:spcPts val="45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1680" indent="-361440">
              <a:spcBef>
                <a:spcPts val="45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1680" indent="-36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знать о фразеологизмах – устойчивых сочетаниях слов, их роли в обогащении реч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уметь находить фразеологизмы в речи, давать им лексическое толкован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усвоить структуру фразеологизмов, уметь их отличать от свободных сочетаний сл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уметь употреблять их в речи с целью её обогащен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21384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Фразеологизм –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это устойчивое  неделимое сочетание слов , которое можно заменить синонимом, одним слов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7030a0"/>
                </a:solidFill>
                <a:latin typeface="Book Antiqua"/>
              </a:rPr>
              <a:t>Phrasis 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выражение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7030a0"/>
                </a:solidFill>
                <a:latin typeface="Book Antiqua"/>
              </a:rPr>
              <a:t>Logos 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учение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4256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Лексическое  значение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меет вес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фразеологизм в цел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Фразеологизмы – это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средст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выразительности язык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, он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елают нашу речь эмоционально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ыразительной и яркой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66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356760" y="642960"/>
            <a:ext cx="8358120" cy="51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человек болтлив, то говорят, что у него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язык без костей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же болтун в придачу любит рассказывать чужие секреты, то у него слишком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линный язы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Такому человеку можно посоветовать, чтобы он н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спуска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инный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язы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очащ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ржал его за зуб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а то и вовс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кусил е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 Любители болтать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чешут языко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пусту. Однако бегло, свободно говорить очень часто бывает просто необходимо. Про человека, обладающего этим умением, скажут, что у него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язык хорошо подвеше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Бывает, что человека никак не удается втянуть в беседу. Сидит себе, молчит, как будто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язык проглоти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Отчаиваться в таких случаях не стоит. Может быть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язык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него ещ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звяжется? 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321760" cy="1158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зык без костей- болтун, слишком много говор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инный язык- болтлив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ржать язык за зубами- молч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кусить язык- резко замолч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шут языком - говорить много и некста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зык хорошо подвешен- кто-либо умеет свободно, гладко говорить, пис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зык проглотил- потерять дар речи из-за сильного удивления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зык развяжется- давать возможность кому-либо говорить свободно, без стесн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5" descr="«Море по колено»"/>
          <p:cNvPicPr/>
          <p:nvPr/>
        </p:nvPicPr>
        <p:blipFill>
          <a:blip r:embed="rId1"/>
          <a:stretch/>
        </p:blipFill>
        <p:spPr>
          <a:xfrm>
            <a:off x="142920" y="142920"/>
            <a:ext cx="3143160" cy="42148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"/>
          <p:cNvSpPr/>
          <p:nvPr/>
        </p:nvSpPr>
        <p:spPr>
          <a:xfrm>
            <a:off x="0" y="4575600"/>
            <a:ext cx="321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Море по колено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ичто не страш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8" descr="«Мухи не обидит»"/>
          <p:cNvPicPr/>
          <p:nvPr/>
        </p:nvPicPr>
        <p:blipFill>
          <a:blip r:embed="rId2"/>
          <a:stretch/>
        </p:blipFill>
        <p:spPr>
          <a:xfrm>
            <a:off x="6143760" y="142920"/>
            <a:ext cx="2743200" cy="30002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4357800" y="307224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Мухи не обидит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кроткий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10" descr="«Как две капли воды»"/>
          <p:cNvPicPr/>
          <p:nvPr/>
        </p:nvPicPr>
        <p:blipFill>
          <a:blip r:embed="rId3"/>
          <a:stretch/>
        </p:blipFill>
        <p:spPr>
          <a:xfrm>
            <a:off x="2643120" y="3429000"/>
            <a:ext cx="3633840" cy="27860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2071800" y="6215400"/>
            <a:ext cx="65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Как две капли воды»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очень похожи друг на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Улыбающееся лицо 13"/>
          <p:cNvSpPr/>
          <p:nvPr/>
        </p:nvSpPr>
        <p:spPr>
          <a:xfrm>
            <a:off x="357120" y="5000760"/>
            <a:ext cx="2500560" cy="114300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Улыбающееся лицо 14"/>
          <p:cNvSpPr/>
          <p:nvPr/>
        </p:nvSpPr>
        <p:spPr>
          <a:xfrm>
            <a:off x="5072040" y="5715000"/>
            <a:ext cx="3429000" cy="100008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Улыбающееся лицо 15"/>
          <p:cNvSpPr/>
          <p:nvPr/>
        </p:nvSpPr>
        <p:spPr>
          <a:xfrm>
            <a:off x="6643800" y="2928960"/>
            <a:ext cx="2500200" cy="114300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4" descr="«Тянуть кота за хвост»"/>
          <p:cNvPicPr/>
          <p:nvPr/>
        </p:nvPicPr>
        <p:blipFill>
          <a:blip r:embed="rId1"/>
          <a:stretch/>
        </p:blipFill>
        <p:spPr>
          <a:xfrm>
            <a:off x="500040" y="142920"/>
            <a:ext cx="4000680" cy="2428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"/>
          <p:cNvSpPr/>
          <p:nvPr/>
        </p:nvSpPr>
        <p:spPr>
          <a:xfrm>
            <a:off x="0" y="2575440"/>
            <a:ext cx="528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Тянуть кота за хвост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долго затягивать какое-либо решение или д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6" descr="«Не разлей вода»"/>
          <p:cNvPicPr/>
          <p:nvPr/>
        </p:nvPicPr>
        <p:blipFill>
          <a:blip r:embed="rId2"/>
          <a:stretch/>
        </p:blipFill>
        <p:spPr>
          <a:xfrm>
            <a:off x="5429160" y="142920"/>
            <a:ext cx="3467160" cy="47721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"/>
          <p:cNvSpPr/>
          <p:nvPr/>
        </p:nvSpPr>
        <p:spPr>
          <a:xfrm>
            <a:off x="4857840" y="5002560"/>
            <a:ext cx="40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Не разлей вода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ужные ребя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8" descr="«Витать в облаках»"/>
          <p:cNvPicPr/>
          <p:nvPr/>
        </p:nvPicPr>
        <p:blipFill>
          <a:blip r:embed="rId3"/>
          <a:stretch/>
        </p:blipFill>
        <p:spPr>
          <a:xfrm>
            <a:off x="428760" y="3714840"/>
            <a:ext cx="4214520" cy="24289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285840" y="6215400"/>
            <a:ext cx="38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Витать в облаках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меч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0"/>
          <p:cNvSpPr/>
          <p:nvPr/>
        </p:nvSpPr>
        <p:spPr>
          <a:xfrm>
            <a:off x="142920" y="3000240"/>
            <a:ext cx="4929120" cy="500040"/>
          </a:xfrm>
          <a:prstGeom prst="rect">
            <a:avLst/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1"/>
          <p:cNvSpPr/>
          <p:nvPr/>
        </p:nvSpPr>
        <p:spPr>
          <a:xfrm>
            <a:off x="3143160" y="6215040"/>
            <a:ext cx="1714680" cy="428760"/>
          </a:xfrm>
          <a:prstGeom prst="rect">
            <a:avLst/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2"/>
          <p:cNvSpPr/>
          <p:nvPr/>
        </p:nvSpPr>
        <p:spPr>
          <a:xfrm>
            <a:off x="5929200" y="5357880"/>
            <a:ext cx="1928880" cy="642960"/>
          </a:xfrm>
          <a:prstGeom prst="rect">
            <a:avLst/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5:39:27Z</dcterms:created>
  <dc:creator>Никита</dc:creator>
  <dc:description/>
  <dc:language>en-US</dc:language>
  <cp:lastModifiedBy>ПК</cp:lastModifiedBy>
  <dcterms:modified xsi:type="dcterms:W3CDTF">2018-10-19T14:35:53Z</dcterms:modified>
  <cp:revision>39</cp:revision>
  <dc:subject/>
  <dc:title>Фразеология</dc:title>
</cp:coreProperties>
</file>