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3D4-2479-4556-A1C0-2588F5A1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C86-A941-4932-A0BC-7ED6D388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52F-518B-48FC-8C0F-320C1C41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D60-C150-49B0-94D9-9902399C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BFF6-BD9D-47B4-8475-2DA2D463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BEF-495F-43FD-8764-FFB560E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CECB-C764-4E05-A7E8-827E32D0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28D2-D6C3-47AA-8A31-86A35ECB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0533-1696-4AD0-AFD7-466AEF5D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8FE5-4CDB-45F4-A8D8-0F009EF6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E820-8BDA-451E-B06A-1E43B9A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6A0-5EE0-40A2-B97D-913E2751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9B19-88B7-4012-AF58-1F2C6B35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E3AA-F7D6-4C3B-B01F-40C2585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778C-AC9C-4726-BA78-B8B93E16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C5D1-A788-46AD-8220-E497F0FD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389A-054E-4175-9298-4D9AE712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46B-6C5D-4FCC-AE8F-99A3DAE8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988-4DB7-4FB6-9273-A34DC79F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B7E-4514-44C6-8CBC-CA79334D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28B-C31E-4FFD-9093-EE7E1109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EA6-04FE-497C-ADFD-F4D28A6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0F1-F6CC-44F3-9B8E-F0C04A74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5C2-CEA3-42C0-BAAD-34060E1D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6D87-BC57-4ED3-AF8D-43103DC90CE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11D4-CDBF-445C-AB8E-3062269F26E3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116000" y="1916280"/>
            <a:ext cx="785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множение одночленов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озведение одночлена в степен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3838320" y="4869000"/>
            <a:ext cx="514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МАОУ Гимназия №6 г. Красноярс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Хорунжая Альбина Валентиновн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909720" y="42768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е математики Средневековья стремились ввести единое обозначение и сократить число символов. Книга Михеля Штифеля «Полная арифметика» (1544 г.) сыграла в этом значительную роль. М. Штифель дал определение 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  и ввел название показа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895480" y="774720"/>
            <a:ext cx="36608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7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Знаете ли вы, что…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Рисунок 1" descr="Picture background"/>
          <p:cNvPicPr/>
          <p:nvPr/>
        </p:nvPicPr>
        <p:blipFill>
          <a:blip r:embed="rId1">
            <a:lum bright="6000"/>
          </a:blip>
          <a:srcRect l="6981" t="9870" r="48770" b="5036"/>
          <a:stretch/>
        </p:blipFill>
        <p:spPr>
          <a:xfrm>
            <a:off x="3492360" y="1413000"/>
            <a:ext cx="1865520" cy="267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0"/>
          <p:cNvSpPr/>
          <p:nvPr/>
        </p:nvSpPr>
        <p:spPr>
          <a:xfrm>
            <a:off x="955800" y="4869000"/>
            <a:ext cx="75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овременную запись показателя степени и  понятие "одночлен" ввел в математику в XVII веке французский математик и философ Рене Декарт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95480" y="774720"/>
            <a:ext cx="36608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7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Знаете ли вы, что…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Рисунок 1" descr="Picture background"/>
          <p:cNvPicPr/>
          <p:nvPr/>
        </p:nvPicPr>
        <p:blipFill>
          <a:blip r:embed="rId1">
            <a:lum bright="6000"/>
          </a:blip>
          <a:srcRect l="54808" t="9868" r="6509" b="7699"/>
          <a:stretch/>
        </p:blipFill>
        <p:spPr>
          <a:xfrm>
            <a:off x="3635280" y="1484280"/>
            <a:ext cx="176868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Объект 7"/>
          <p:cNvGraphicFramePr/>
          <p:nvPr/>
        </p:nvGraphicFramePr>
        <p:xfrm>
          <a:off x="735120" y="1409760"/>
          <a:ext cx="785484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409760"/>
                    <a:ext cx="78548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Надпись 2"/>
          <p:cNvSpPr/>
          <p:nvPr/>
        </p:nvSpPr>
        <p:spPr>
          <a:xfrm>
            <a:off x="4067280" y="1768320"/>
            <a:ext cx="1584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 </a:t>
            </a:r>
            <a:r>
              <a:rPr b="1" i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Надпись 2"/>
          <p:cNvSpPr/>
          <p:nvPr/>
        </p:nvSpPr>
        <p:spPr>
          <a:xfrm>
            <a:off x="3581280" y="2332080"/>
            <a:ext cx="14922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00 </a:t>
            </a:r>
            <a:r>
              <a:rPr b="1" i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х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Надпись 2"/>
          <p:cNvSpPr/>
          <p:nvPr/>
        </p:nvSpPr>
        <p:spPr>
          <a:xfrm>
            <a:off x="2949480" y="2928960"/>
            <a:ext cx="20541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,001 р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7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Надпись 2"/>
          <p:cNvSpPr/>
          <p:nvPr/>
        </p:nvSpPr>
        <p:spPr>
          <a:xfrm>
            <a:off x="3724200" y="5000760"/>
            <a:ext cx="1568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1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t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1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Надпись 2"/>
          <p:cNvSpPr/>
          <p:nvPr/>
        </p:nvSpPr>
        <p:spPr>
          <a:xfrm>
            <a:off x="3159000" y="5487840"/>
            <a:ext cx="2133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,0016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m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12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k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4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Надпись 2"/>
          <p:cNvSpPr/>
          <p:nvPr/>
        </p:nvSpPr>
        <p:spPr>
          <a:xfrm>
            <a:off x="2949480" y="3438360"/>
            <a:ext cx="16225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(2х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z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611280" y="595008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г)  625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</a:t>
            </a:r>
            <a:r>
              <a:rPr b="0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0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12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=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Надпись 2"/>
          <p:cNvSpPr/>
          <p:nvPr/>
        </p:nvSpPr>
        <p:spPr>
          <a:xfrm>
            <a:off x="2792520" y="5991120"/>
            <a:ext cx="1670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р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Надпись 2"/>
          <p:cNvSpPr/>
          <p:nvPr/>
        </p:nvSpPr>
        <p:spPr>
          <a:xfrm>
            <a:off x="4462560" y="4437000"/>
            <a:ext cx="1549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 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q</a:t>
            </a:r>
            <a:r>
              <a:rPr b="1" lang="ru-RU" sz="24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Прямоугольник 1"/>
          <p:cNvSpPr/>
          <p:nvPr/>
        </p:nvSpPr>
        <p:spPr>
          <a:xfrm>
            <a:off x="1187280" y="925560"/>
            <a:ext cx="6950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Calibri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Calibri"/>
              </a:rPr>
              <a:t>Проверим ответы в самостоятельной работе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00000" y="2133720"/>
          <a:ext cx="7704360" cy="3456000"/>
        </p:xfrm>
        <a:graphic>
          <a:graphicData uri="http://schemas.openxmlformats.org/drawingml/2006/table">
            <a:tbl>
              <a:tblPr/>
              <a:tblGrid>
                <a:gridCol w="617760"/>
                <a:gridCol w="3774960"/>
                <a:gridCol w="1943280"/>
                <a:gridCol w="1368360"/>
              </a:tblGrid>
              <a:tr h="428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№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Виды задания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Выполнени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Оценка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Устная работ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Найти ошибку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Математическое лото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Математический кроссворд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Тест   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Самостоятельная работ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                        </a:t>
                      </a: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Итого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b5249"/>
                          </a:solidFill>
                          <a:latin typeface="Times New Roman"/>
                          <a:ea typeface="MS Mincho"/>
                        </a:rPr>
                        <a:t> 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Прямоугольник 2"/>
          <p:cNvSpPr/>
          <p:nvPr/>
        </p:nvSpPr>
        <p:spPr>
          <a:xfrm>
            <a:off x="3461760" y="12682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MS Mincho"/>
              </a:rPr>
              <a:t>Лист самооценк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755640" y="126828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Цели урока (ученик сможет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. Рассказывать правило умножения одночленов, правило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озведения одночлена в степень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. Выполнять умножение одночленов, возведение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одночлена в степен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. Применять правила умножения одночленов и возведения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одночлена в степень для преобразования выражения при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прощении выраж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MS Mincho"/>
              </a:rPr>
              <a:t>4. Оценивать правильность выполнения заданий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MS Mincho"/>
              </a:rPr>
              <a:t>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7201080" cy="49737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916360" y="9079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00240"/>
                <a:tab algn="l" pos="3514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Карточка – подсказк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087560" y="1041480"/>
            <a:ext cx="7396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Что представляет собой выражение?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i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а</a:t>
            </a:r>
            <a:r>
              <a:rPr b="1" i="1" lang="en-US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n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i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а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х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х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 </a:t>
            </a:r>
            <a:r>
              <a:rPr b="1" i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а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· (-2) </a:t>
            </a:r>
            <a:r>
              <a:rPr b="1" i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а 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(3 </a:t>
            </a:r>
            <a:r>
              <a:rPr b="1" i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а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в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)</a:t>
            </a:r>
            <a:r>
              <a:rPr b="1" lang="ru-RU" sz="3000" spc="-1" strike="noStrike" baseline="30000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endParaRPr b="0" lang="en-US" sz="3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Рисунок 2" descr="17844908466b614e00320707a3fec4cb.png"/>
          <p:cNvPicPr/>
          <p:nvPr/>
        </p:nvPicPr>
        <p:blipFill>
          <a:blip r:embed="rId1"/>
          <a:stretch/>
        </p:blipFill>
        <p:spPr>
          <a:xfrm>
            <a:off x="6505560" y="3757680"/>
            <a:ext cx="253836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4"/>
          <p:cNvSpPr/>
          <p:nvPr/>
        </p:nvSpPr>
        <p:spPr>
          <a:xfrm>
            <a:off x="5867280" y="3276720"/>
            <a:ext cx="2017800" cy="40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5867280" y="1957320"/>
            <a:ext cx="295272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258920" y="4778280"/>
            <a:ext cx="3557520" cy="405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258920" y="4014720"/>
            <a:ext cx="23032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244520" y="2560680"/>
            <a:ext cx="26924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84080" y="1132200"/>
            <a:ext cx="8064720" cy="40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tabLst>
                <a:tab algn="l" pos="0"/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Указать примеры, в которых допущены ошибки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х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0,2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8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.    6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2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eriod" startAt="2"/>
              <a:tabLst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–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8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7.    3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+ 4 у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7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eriod" startAt="3"/>
              <a:tabLst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2 · 5 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8.   ( 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8 =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75000"/>
              <a:buFont typeface="Times New Roman"/>
              <a:buAutoNum type="arabicPeriod" startAt="4"/>
              <a:tabLst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0000"/>
                <a:tab algn="l" pos="2635200"/>
                <a:tab algn="l" pos="416412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27040" y="4664880"/>
            <a:ext cx="295452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157788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9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Рисунок 13" descr="17844908466b614e00320707a3fec4cb.png"/>
          <p:cNvPicPr/>
          <p:nvPr/>
        </p:nvPicPr>
        <p:blipFill>
          <a:blip r:embed="rId1"/>
          <a:stretch/>
        </p:blipFill>
        <p:spPr>
          <a:xfrm>
            <a:off x="5867280" y="4664160"/>
            <a:ext cx="2538360" cy="20509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1314000" y="4732200"/>
            <a:ext cx="35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258920" y="1771560"/>
          <a:ext cx="6834240" cy="4948200"/>
        </p:xfrm>
        <a:graphic>
          <a:graphicData uri="http://schemas.openxmlformats.org/drawingml/2006/table">
            <a:tbl>
              <a:tblPr/>
              <a:tblGrid>
                <a:gridCol w="195120"/>
                <a:gridCol w="331920"/>
                <a:gridCol w="331920"/>
                <a:gridCol w="331560"/>
                <a:gridCol w="331920"/>
                <a:gridCol w="331560"/>
                <a:gridCol w="331920"/>
                <a:gridCol w="331920"/>
                <a:gridCol w="333360"/>
                <a:gridCol w="331560"/>
                <a:gridCol w="331920"/>
                <a:gridCol w="331920"/>
                <a:gridCol w="331560"/>
                <a:gridCol w="331920"/>
                <a:gridCol w="331920"/>
                <a:gridCol w="331560"/>
                <a:gridCol w="333360"/>
                <a:gridCol w="331920"/>
                <a:gridCol w="331920"/>
                <a:gridCol w="331560"/>
                <a:gridCol w="331920"/>
              </a:tblGrid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51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768320" y="4262400"/>
          <a:ext cx="349560" cy="2112840"/>
        </p:xfrm>
        <a:graphic>
          <a:graphicData uri="http://schemas.openxmlformats.org/drawingml/2006/table">
            <a:tbl>
              <a:tblPr/>
              <a:tblGrid>
                <a:gridCol w="349560"/>
              </a:tblGrid>
              <a:tr h="3128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743960" y="2303640"/>
          <a:ext cx="349200" cy="2509560"/>
        </p:xfrm>
        <a:graphic>
          <a:graphicData uri="http://schemas.openxmlformats.org/drawingml/2006/table">
            <a:tbl>
              <a:tblPr/>
              <a:tblGrid>
                <a:gridCol w="349200"/>
              </a:tblGrid>
              <a:tr h="353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59000" y="5435640"/>
          <a:ext cx="3484440" cy="274680"/>
        </p:xfrm>
        <a:graphic>
          <a:graphicData uri="http://schemas.openxmlformats.org/drawingml/2006/table">
            <a:tbl>
              <a:tblPr/>
              <a:tblGrid>
                <a:gridCol w="349200"/>
                <a:gridCol w="347760"/>
                <a:gridCol w="349200"/>
                <a:gridCol w="347400"/>
                <a:gridCol w="349560"/>
                <a:gridCol w="347400"/>
                <a:gridCol w="349200"/>
                <a:gridCol w="347760"/>
                <a:gridCol w="349200"/>
                <a:gridCol w="347760"/>
              </a:tblGrid>
              <a:tr h="274680"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367240" y="3921120"/>
          <a:ext cx="2787840" cy="274680"/>
        </p:xfrm>
        <a:graphic>
          <a:graphicData uri="http://schemas.openxmlformats.org/drawingml/2006/table">
            <a:tbl>
              <a:tblPr/>
              <a:tblGrid>
                <a:gridCol w="347760"/>
                <a:gridCol w="349200"/>
                <a:gridCol w="347760"/>
                <a:gridCol w="349200"/>
                <a:gridCol w="347760"/>
                <a:gridCol w="349200"/>
                <a:gridCol w="347760"/>
                <a:gridCol w="349200"/>
              </a:tblGrid>
              <a:tr h="2746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448080" y="3040200"/>
          <a:ext cx="3665520" cy="274680"/>
        </p:xfrm>
        <a:graphic>
          <a:graphicData uri="http://schemas.openxmlformats.org/drawingml/2006/table">
            <a:tbl>
              <a:tblPr/>
              <a:tblGrid>
                <a:gridCol w="333360"/>
                <a:gridCol w="333360"/>
                <a:gridCol w="333360"/>
                <a:gridCol w="333360"/>
                <a:gridCol w="333360"/>
                <a:gridCol w="331920"/>
                <a:gridCol w="333360"/>
                <a:gridCol w="333360"/>
                <a:gridCol w="333360"/>
                <a:gridCol w="333360"/>
                <a:gridCol w="333360"/>
              </a:tblGrid>
              <a:tr h="2746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100320" y="3311640"/>
          <a:ext cx="347760" cy="2997000"/>
        </p:xfrm>
        <a:graphic>
          <a:graphicData uri="http://schemas.openxmlformats.org/drawingml/2006/table">
            <a:tbl>
              <a:tblPr/>
              <a:tblGrid>
                <a:gridCol w="347760"/>
              </a:tblGrid>
              <a:tr h="299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755880" y="2087640"/>
          <a:ext cx="347760" cy="2725560"/>
        </p:xfrm>
        <a:graphic>
          <a:graphicData uri="http://schemas.openxmlformats.org/drawingml/2006/table">
            <a:tbl>
              <a:tblPr/>
              <a:tblGrid>
                <a:gridCol w="347760"/>
              </a:tblGrid>
              <a:tr h="3031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41920" y="2081160"/>
          <a:ext cx="349200" cy="2181240"/>
        </p:xfrm>
        <a:graphic>
          <a:graphicData uri="http://schemas.openxmlformats.org/drawingml/2006/table">
            <a:tbl>
              <a:tblPr/>
              <a:tblGrid>
                <a:gridCol w="349200"/>
              </a:tblGrid>
              <a:tr h="3110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448000" y="4516560"/>
          <a:ext cx="3348000" cy="274680"/>
        </p:xfrm>
        <a:graphic>
          <a:graphicData uri="http://schemas.openxmlformats.org/drawingml/2006/table">
            <a:tbl>
              <a:tblPr/>
              <a:tblGrid>
                <a:gridCol w="333360"/>
                <a:gridCol w="336600"/>
                <a:gridCol w="333360"/>
                <a:gridCol w="336600"/>
                <a:gridCol w="333360"/>
                <a:gridCol w="334800"/>
                <a:gridCol w="335160"/>
                <a:gridCol w="334800"/>
                <a:gridCol w="334800"/>
                <a:gridCol w="335160"/>
              </a:tblGrid>
              <a:tr h="2746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068880" y="3008160"/>
          <a:ext cx="347760" cy="2149560"/>
        </p:xfrm>
        <a:graphic>
          <a:graphicData uri="http://schemas.openxmlformats.org/drawingml/2006/table">
            <a:tbl>
              <a:tblPr/>
              <a:tblGrid>
                <a:gridCol w="347760"/>
              </a:tblGrid>
              <a:tr h="30672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15"/>
          <p:cNvSpPr/>
          <p:nvPr/>
        </p:nvSpPr>
        <p:spPr>
          <a:xfrm>
            <a:off x="579600" y="885960"/>
            <a:ext cx="8474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Краткая запись произведения нескольких одинаковых множите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1434600" y="885960"/>
            <a:ext cx="6240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Как называется число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записи выражения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Прямоугольник 17"/>
          <p:cNvSpPr/>
          <p:nvPr/>
        </p:nvSpPr>
        <p:spPr>
          <a:xfrm>
            <a:off x="1473480" y="987480"/>
            <a:ext cx="62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Как называется число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записи выражения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Прямоугольник 18"/>
          <p:cNvSpPr/>
          <p:nvPr/>
        </p:nvSpPr>
        <p:spPr>
          <a:xfrm>
            <a:off x="1923480" y="915840"/>
            <a:ext cx="4909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Чему равно значение  выражения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lang="ru-RU" sz="2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Прямоугольник 19"/>
          <p:cNvSpPr/>
          <p:nvPr/>
        </p:nvSpPr>
        <p:spPr>
          <a:xfrm>
            <a:off x="2642040" y="1033560"/>
            <a:ext cx="3931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Действие отыскания степен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Прямоугольник 20"/>
          <p:cNvSpPr/>
          <p:nvPr/>
        </p:nvSpPr>
        <p:spPr>
          <a:xfrm>
            <a:off x="1767960" y="996840"/>
            <a:ext cx="4931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Буква в алгебраическом выражен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Прямоугольник 21"/>
          <p:cNvSpPr/>
          <p:nvPr/>
        </p:nvSpPr>
        <p:spPr>
          <a:xfrm>
            <a:off x="1132200" y="1039680"/>
            <a:ext cx="70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Произведение числа и степеней различных переме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Прямоугольник 22"/>
          <p:cNvSpPr/>
          <p:nvPr/>
        </p:nvSpPr>
        <p:spPr>
          <a:xfrm>
            <a:off x="2561400" y="1077840"/>
            <a:ext cx="43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Числовой множитель одночлен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Прямоугольник 23"/>
          <p:cNvSpPr/>
          <p:nvPr/>
        </p:nvSpPr>
        <p:spPr>
          <a:xfrm>
            <a:off x="1401840" y="1122480"/>
            <a:ext cx="63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Одночлены с одинаковыми буквенными частям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Прямоугольник 24"/>
          <p:cNvSpPr/>
          <p:nvPr/>
        </p:nvSpPr>
        <p:spPr>
          <a:xfrm>
            <a:off x="1122480" y="965160"/>
            <a:ext cx="70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Фамилия немецкого математика, который ввёл термин «показатель степени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Picture background"/>
          <p:cNvPicPr/>
          <p:nvPr/>
        </p:nvPicPr>
        <p:blipFill>
          <a:blip r:embed="rId1"/>
          <a:srcRect l="55678" t="4488" r="2082" b="8268"/>
          <a:stretch/>
        </p:blipFill>
        <p:spPr>
          <a:xfrm>
            <a:off x="2957400" y="2492280"/>
            <a:ext cx="1771920" cy="27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Рисунок 1" descr="Picture background"/>
          <p:cNvPicPr/>
          <p:nvPr/>
        </p:nvPicPr>
        <p:blipFill>
          <a:blip r:embed="rId2"/>
          <a:srcRect l="0" t="4488" r="54394" b="8327"/>
          <a:stretch/>
        </p:blipFill>
        <p:spPr>
          <a:xfrm>
            <a:off x="706320" y="2492280"/>
            <a:ext cx="1940040" cy="27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Рисунок 1" descr="Picture background"/>
          <p:cNvPicPr/>
          <p:nvPr/>
        </p:nvPicPr>
        <p:blipFill>
          <a:blip r:embed="rId3">
            <a:lum bright="6000"/>
          </a:blip>
          <a:srcRect l="6981" t="9870" r="48770" b="5036"/>
          <a:stretch/>
        </p:blipFill>
        <p:spPr>
          <a:xfrm>
            <a:off x="4910040" y="2446200"/>
            <a:ext cx="1941480" cy="27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Рисунок 1" descr="Picture background"/>
          <p:cNvPicPr/>
          <p:nvPr/>
        </p:nvPicPr>
        <p:blipFill>
          <a:blip r:embed="rId4">
            <a:lum bright="6000"/>
          </a:blip>
          <a:srcRect l="54808" t="9868" r="6509" b="7699"/>
          <a:stretch/>
        </p:blipFill>
        <p:spPr>
          <a:xfrm>
            <a:off x="7070760" y="2446200"/>
            <a:ext cx="1728720" cy="274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TextBox 2"/>
          <p:cNvSpPr/>
          <p:nvPr/>
        </p:nvSpPr>
        <p:spPr>
          <a:xfrm>
            <a:off x="1315440" y="1130400"/>
            <a:ext cx="70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Учёные - математики,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несши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льшой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клад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развити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математики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657dc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089000" y="450864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степени с натуральным показателем сформировалось ещё у древних народов. В III веке вышла книга греческого ученого Диофанта Александрийского “Арифметика”, в которой он описывает первые натуральные степени чисел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895480" y="774720"/>
            <a:ext cx="36608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7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Знаете ли вы, что…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Рисунок 1" descr="Picture background"/>
          <p:cNvPicPr/>
          <p:nvPr/>
        </p:nvPicPr>
        <p:blipFill>
          <a:blip r:embed="rId1"/>
          <a:srcRect l="0" t="4488" r="54394" b="8327"/>
          <a:stretch/>
        </p:blipFill>
        <p:spPr>
          <a:xfrm>
            <a:off x="3492360" y="1484280"/>
            <a:ext cx="195912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895480" y="774720"/>
            <a:ext cx="3660840" cy="4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7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Знаете ли вы, что…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Рисунок 1" descr="Picture background"/>
          <p:cNvPicPr/>
          <p:nvPr/>
        </p:nvPicPr>
        <p:blipFill>
          <a:blip r:embed="rId1"/>
          <a:srcRect l="55678" t="4488" r="2082" b="8268"/>
          <a:stretch/>
        </p:blipFill>
        <p:spPr>
          <a:xfrm>
            <a:off x="3635280" y="1413000"/>
            <a:ext cx="151308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Прямоугольник 14"/>
          <p:cNvSpPr/>
          <p:nvPr/>
        </p:nvSpPr>
        <p:spPr>
          <a:xfrm>
            <a:off x="873000" y="3968640"/>
            <a:ext cx="770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MS Mincho"/>
              </a:rPr>
              <a:t> 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  <a:ea typeface="MS Mincho"/>
              </a:rPr>
              <a:t>В IX веке арабский математик Мухаммад ибн Муса ал-Хорезми в книге "Китаб аль-джабр ва аль-мукабала" ("Книга об алгебре и алгоритмах") рассматривал методы решения уравнений и использовал понятие степени для обозначения произведения одного и того же числа на себя несколько раз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7:19:31Z</dcterms:created>
  <dc:creator>VedeninaVP</dc:creator>
  <dc:description/>
  <dc:language>en-US</dc:language>
  <cp:lastModifiedBy>Альбина</cp:lastModifiedBy>
  <dcterms:modified xsi:type="dcterms:W3CDTF">2024-09-11T04:45:33Z</dcterms:modified>
  <cp:revision>42</cp:revision>
  <dc:subject/>
  <dc:title>Использование элементов истории на уроках математики в начальной школе</dc:title>
</cp:coreProperties>
</file>